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</p:sldIdLst>
  <p:sldSz cx="12193588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87480" y="744120"/>
            <a:ext cx="661320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20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21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77CD-284C-46CD-B030-5A7840B21D9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744B-8497-439D-88E1-948DFFB0999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5932-2712-4ECE-89DA-07D1C7ADB9B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A4B3-7703-4982-B79B-3336F2FA1C9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DE1E-D697-4063-9FF9-0989AFFCDE9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EA10-0FE7-4F79-AEB9-65AABE95FA4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F833-E9CE-4819-ABFF-11E86521B56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6BB0-9463-489C-93B2-304CD67B016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AED1-DD85-468A-960B-3FF32C1D3C2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01AC-664E-4087-B6B3-789491812D5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E628-68ED-4652-BC0A-B6E0FDBFA59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FAB0-C61E-47A3-A4B3-DEA228F1E2F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A45F-4830-455C-9437-15E4CB70F19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FC15-A971-41FE-B5CB-70EB285D6EC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C7CF-BFC9-4932-8116-D8341241D5B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0168-64C5-41CA-803F-5FBF0E2E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6EAF-59F1-49BD-9706-929B0686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70E0-934F-4DA0-94B0-E3EC1F48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CBC4-5BF3-45A5-B9AF-3C7347C5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2C88-1E73-482E-8E34-4493FA45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44D0-A6CA-4A2C-BEDA-04EB5279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B3ED-24BA-40E5-A18A-B51A6AE8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D5F0-5441-490B-BE92-10E41DAD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EF9F-43A9-4EB1-9AF7-8389F577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31A2-D12D-4972-8E3F-D4E92D06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9F64-626A-4016-ACA5-6F360748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649E-E444-4486-AC29-61219A13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85C5-47B3-4642-BB20-2FF0C299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DAF3-F9BE-4647-A517-71B7674B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4674-DC7E-4A1A-B166-98E53F7E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260C-083E-4429-8E69-73D19CEC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E588-5F4A-4CD7-84F6-514235C4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F2CEF-7DC6-400F-B29A-9E826877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BF9CE-7756-41B4-A3FA-9ADCC063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4A10C-4B51-465D-BF57-B132A717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F30D8-3985-4A71-BD66-C154B846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7440E-3AC9-4E84-A06B-21986424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A190-8A44-446B-B190-94DE0D4B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F4BA7-9E7F-4C40-AE5B-96214E9F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50017-3FA7-4FD9-A9CD-E7C4B6BC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40D6D-B982-47AB-88F1-39DDB7B7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BCDCA-C5B9-4E2D-A9B0-16B1196C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FC5E0-B243-4715-A5A9-72D8E688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E7620-B13F-41EB-877F-1C4A7A42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36F26-058E-4978-8C38-DE06C164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38FCE-885F-4FA7-8941-C13BAE3A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46E91-D2E8-4729-9D80-C5B92C6F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C68C1-A63B-46ED-AA9F-14D52285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9E9-323D-45BA-B2F5-487F2EDE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1C8FF-2110-4A3A-8BC3-81E47656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33158-DA95-4D66-BDAF-F7AF5828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EBF7F-7A95-43E3-9442-BED174E4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B192A-55BA-42F3-844E-84CE2E9B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3424B-EFAF-4B2F-A087-B307745B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38C1E-B660-460A-88DB-57EAF6AB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DB553-133F-451E-92B4-98FF05A7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CDF78-0584-4F3B-AFF4-B5D9F9FF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F5A71-771C-411C-8F1F-C61B7284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6EAF3-3189-4D07-880B-D72F89B4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F849-F8A7-4A68-BB42-FEC51F3B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B5C74-9F7A-4A98-9F3A-F054DA2E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3D367-873E-4BAE-ACC4-35CB08F5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946B9-7694-48C3-9E70-3C2E7726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FFED0-C6A9-4C2B-B594-BB6E00AC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19FD8-00A9-41FB-BF48-3FE94639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9F9DF-9EF0-4B5F-8047-06715991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FD5ED-8BE5-46FD-BCFB-6682CCF5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E9303-ACBF-47DD-B5CC-03EE4202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2A0EA-2F95-4DFA-A753-DD12F957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39CB0-7BBC-4F72-A2D8-EA418158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7772-C808-4BE6-91CB-09680D97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F643F-F4CD-46D0-BC16-9D9D5719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3788C-EC44-4795-BF9F-AC739951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51DC5-20C5-4E86-9E76-168B802A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5FC31-5C9F-40F4-A4B5-5ED94A5D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DE1F7-CFFA-4C03-9201-CA1B6F91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8C32A-462E-4C30-9D48-08E9233B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10752-E5D5-47DF-BC68-8B1CFA45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E32D4-C435-4046-8B3B-01435078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E9DD0-060F-46D1-A2B4-204CC4DB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A7B05-D411-433A-BE6E-3F2962A1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B24F-5DF4-4FA3-8D93-284DB909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30DA6-7208-4B75-B820-416093DA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51558-3DB7-484D-AB79-005810EB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A9AD7-7273-4B71-8EDB-BA644C0E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E004-8D92-4BFC-A3CB-4C0E565C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AF1D-C468-4051-840B-B5AC4FB6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6F87-B039-4458-9B35-BB59397AC9D6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C4F1-A59F-4749-B1D8-2558C31A34B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3789-328A-4008-B375-9BDD8E74643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899B-8C20-4533-A1E8-7C8E9442A095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50FE-0761-437B-B845-5637E4C26FFC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BE36-3075-40E1-AE1F-3974C2FEEAD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3F9F-01E2-4BD2-9281-5572F6E7D839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F952-5A49-4F36-A743-D65F650E833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tângulo 7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842E-E3D4-4EC3-8BD5-07F6E3C54EE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CD68-40D2-41C4-8B50-93773C0560F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DA83-F920-4501-8DF5-DCDD44F29A3F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EBE4-17CB-49A1-9577-D8ED801CFC4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3"/>
          <p:cNvSpPr/>
          <p:nvPr/>
        </p:nvSpPr>
        <p:spPr>
          <a:xfrm>
            <a:off x="1055520" y="838080"/>
            <a:ext cx="9361800" cy="60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Janeiro de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31680" y="64533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30240" y="549360"/>
            <a:ext cx="966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9 a 2018) – Em R$ B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Imagem 1" descr=""/>
          <p:cNvPicPr/>
          <p:nvPr/>
        </p:nvPicPr>
        <p:blipFill>
          <a:blip r:embed="rId1"/>
          <a:stretch/>
        </p:blipFill>
        <p:spPr>
          <a:xfrm>
            <a:off x="30240" y="1052640"/>
            <a:ext cx="11538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0" y="64562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8 estimado de acordo com a Grade de Parâmetros da SPE/MF de 01/201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0" y="509760"/>
            <a:ext cx="9551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9 a 2018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Imagem 1" descr=""/>
          <p:cNvPicPr/>
          <p:nvPr/>
        </p:nvPicPr>
        <p:blipFill>
          <a:blip r:embed="rId1"/>
          <a:stretch/>
        </p:blipFill>
        <p:spPr>
          <a:xfrm>
            <a:off x="0" y="1230480"/>
            <a:ext cx="12072960" cy="52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12600" y="549360"/>
            <a:ext cx="953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(2017 e 2018) – Em R$ milhões de dezembro/2018 (INPC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34800" y="638172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12600" y="1378080"/>
            <a:ext cx="118443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3"/>
          <p:cNvSpPr/>
          <p:nvPr/>
        </p:nvSpPr>
        <p:spPr>
          <a:xfrm>
            <a:off x="27000" y="476280"/>
            <a:ext cx="9524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(2017 e 2018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16080" y="6381720"/>
            <a:ext cx="36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27000" y="1438200"/>
            <a:ext cx="120459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ESULTADO DO RG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476280"/>
            <a:ext cx="96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9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9080" y="6453360"/>
            <a:ext cx="35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Imagem 1" descr=""/>
          <p:cNvPicPr/>
          <p:nvPr/>
        </p:nvPicPr>
        <p:blipFill>
          <a:blip r:embed="rId1"/>
          <a:stretch/>
        </p:blipFill>
        <p:spPr>
          <a:xfrm>
            <a:off x="0" y="1341360"/>
            <a:ext cx="12072960" cy="50403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2"/>
          <p:cNvSpPr/>
          <p:nvPr/>
        </p:nvSpPr>
        <p:spPr>
          <a:xfrm>
            <a:off x="0" y="907920"/>
            <a:ext cx="1048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a66ac"/>
                </a:solidFill>
                <a:latin typeface="Arial"/>
                <a:ea typeface="Times New Roman"/>
              </a:rPr>
              <a:t>Entre 2018 e 2017, a arrecadação líquida cresceu 1,4% (+R$ 5,6 bilhões), a despesa com benefícios previdenciários 2,3% (+R$ 13,2 bilhões) e o Resultado Previdenciário apresentou elevação de 4,0% (+R$ 7,6 bilhõe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0" y="6458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0" y="549360"/>
            <a:ext cx="96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umulado de Janeiro a Dezembro (2009 a 2018)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B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Imagem 1" descr=""/>
          <p:cNvPicPr/>
          <p:nvPr/>
        </p:nvPicPr>
        <p:blipFill>
          <a:blip r:embed="rId1"/>
          <a:stretch/>
        </p:blipFill>
        <p:spPr>
          <a:xfrm>
            <a:off x="0" y="1052640"/>
            <a:ext cx="117126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7920" y="643248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8 estimado de acordo com a Grade de Parâmetros da SPE/MF de 01/201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-7920" y="549360"/>
            <a:ext cx="9578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9 a 201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Imagem 1" descr=""/>
          <p:cNvPicPr/>
          <p:nvPr/>
        </p:nvPicPr>
        <p:blipFill>
          <a:blip r:embed="rId1"/>
          <a:stretch/>
        </p:blipFill>
        <p:spPr>
          <a:xfrm>
            <a:off x="-7920" y="1052640"/>
            <a:ext cx="12080880" cy="53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162000" y="476280"/>
            <a:ext cx="9389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de Dezembro de 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0" y="6485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Imagem 1" descr=""/>
          <p:cNvPicPr/>
          <p:nvPr/>
        </p:nvPicPr>
        <p:blipFill>
          <a:blip r:embed="rId1"/>
          <a:stretch/>
        </p:blipFill>
        <p:spPr>
          <a:xfrm>
            <a:off x="0" y="907920"/>
            <a:ext cx="12192120" cy="55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15840" y="538200"/>
            <a:ext cx="9536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0" y="64231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Imagem 1" descr=""/>
          <p:cNvPicPr/>
          <p:nvPr/>
        </p:nvPicPr>
        <p:blipFill>
          <a:blip r:embed="rId1"/>
          <a:stretch/>
        </p:blipFill>
        <p:spPr>
          <a:xfrm>
            <a:off x="15840" y="907920"/>
            <a:ext cx="12176280" cy="554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URB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213516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TENDÊNCIAS ARRECADAÇÃO, DESPESA E RESULT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3"/>
          <p:cNvSpPr/>
          <p:nvPr/>
        </p:nvSpPr>
        <p:spPr>
          <a:xfrm>
            <a:off x="0" y="547560"/>
            <a:ext cx="9624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 e Despesa com Benefícios Previdenciários, nos últimos 25 meses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R$ bilhões de dezembro/2018 - INPC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4995720" y="11224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19080" y="64231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Imagem 1" descr=""/>
          <p:cNvPicPr/>
          <p:nvPr/>
        </p:nvPicPr>
        <p:blipFill>
          <a:blip r:embed="rId1"/>
          <a:stretch/>
        </p:blipFill>
        <p:spPr>
          <a:xfrm>
            <a:off x="0" y="1195560"/>
            <a:ext cx="1214424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549360"/>
            <a:ext cx="9624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Composição da Arrecadação Líqu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Corrente, Recuperação de Créditos e Transferência a Terceiros, nos últimos 25 meses –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R$ bilhões de dezembro/2018 - INP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263520" y="63817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Imagem 1" descr=""/>
          <p:cNvPicPr/>
          <p:nvPr/>
        </p:nvPicPr>
        <p:blipFill>
          <a:blip r:embed="rId1"/>
          <a:stretch/>
        </p:blipFill>
        <p:spPr>
          <a:xfrm>
            <a:off x="0" y="1341360"/>
            <a:ext cx="120729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476280"/>
            <a:ext cx="95518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Composição da Despesa com Benefícios Previdenciá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Benefícios Pagos pelo INSS e Sentenças Judiciais nos últimos 25 meses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– Em R$ bilhões de dezembro/2018 (INPC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47520" y="6458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Imagem 1" descr=""/>
          <p:cNvPicPr/>
          <p:nvPr/>
        </p:nvPicPr>
        <p:blipFill>
          <a:blip r:embed="rId1"/>
          <a:stretch/>
        </p:blipFill>
        <p:spPr>
          <a:xfrm>
            <a:off x="47520" y="1268280"/>
            <a:ext cx="1209672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-4680" y="476280"/>
            <a:ext cx="96249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a Previdência Social – nos últimos 25 me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R$ bilhões de dezembro/2018 - INP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7"/>
          <p:cNvSpPr/>
          <p:nvPr/>
        </p:nvSpPr>
        <p:spPr>
          <a:xfrm>
            <a:off x="0" y="641340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Imagem 1" descr=""/>
          <p:cNvPicPr/>
          <p:nvPr/>
        </p:nvPicPr>
        <p:blipFill>
          <a:blip r:embed="rId1"/>
          <a:stretch/>
        </p:blipFill>
        <p:spPr>
          <a:xfrm>
            <a:off x="0" y="1087560"/>
            <a:ext cx="12192120" cy="52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549360"/>
            <a:ext cx="9607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por Clientela – Média móvel de 12 me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Janeiro/2009 a dezembro/2018) –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R$ milhões de dezembro/2018 - INP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0" y="64263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Imagem 1" descr=""/>
          <p:cNvPicPr/>
          <p:nvPr/>
        </p:nvPicPr>
        <p:blipFill>
          <a:blip r:embed="rId1"/>
          <a:stretch/>
        </p:blipFill>
        <p:spPr>
          <a:xfrm>
            <a:off x="0" y="1123920"/>
            <a:ext cx="12192120" cy="53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4680" y="549360"/>
            <a:ext cx="95472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Média móvel de 12 me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Janeiro/2009 a dezembro/2018)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R$ bilhões de dezembro/2018 (INP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334800" y="64533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Imagem 1" descr=""/>
          <p:cNvPicPr/>
          <p:nvPr/>
        </p:nvPicPr>
        <p:blipFill>
          <a:blip r:embed="rId1"/>
          <a:stretch/>
        </p:blipFill>
        <p:spPr>
          <a:xfrm>
            <a:off x="4680" y="1125360"/>
            <a:ext cx="12139560" cy="532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EMITID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ESTOQU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476280"/>
            <a:ext cx="9624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Emitidos – RGPS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Dez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/2017, Nov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/2018 e Dezembro/20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47520" y="6381720"/>
            <a:ext cx="986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o Desenvolvimento Social e Combate à F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Imagem 1" descr=""/>
          <p:cNvPicPr/>
          <p:nvPr/>
        </p:nvPicPr>
        <p:blipFill>
          <a:blip r:embed="rId1"/>
          <a:stretch/>
        </p:blipFill>
        <p:spPr>
          <a:xfrm>
            <a:off x="47520" y="907920"/>
            <a:ext cx="1195236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4680" y="909720"/>
            <a:ext cx="962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tre dezembro de 2008 e dezembro de 2018, a quantidade de benefícios previdenciários e acidentários emitidos pela Previdência aumentou 32,9%, passando de 22,8 milhões para 30,3 milhõ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4680" y="549360"/>
            <a:ext cx="9620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da Quantidade de Benefícios Emitidos pela Previdência Social</a:t>
            </a:r>
            <a:r>
              <a:rPr b="1" i="1" lang="pt-BR" sz="1600" spc="-1" strike="noStrike">
                <a:solidFill>
                  <a:srgbClr val="629dd1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Em milhões de benefícios - 2008 a 2018 (dezemb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4680" y="6381720"/>
            <a:ext cx="1008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o Desenvolvimento Social e Combate à F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Imagem 1" descr=""/>
          <p:cNvPicPr/>
          <p:nvPr/>
        </p:nvPicPr>
        <p:blipFill>
          <a:blip r:embed="rId1"/>
          <a:stretch/>
        </p:blipFill>
        <p:spPr>
          <a:xfrm>
            <a:off x="4680" y="1366920"/>
            <a:ext cx="12139560" cy="50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476280"/>
            <a:ext cx="9696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9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92240" y="6435720"/>
            <a:ext cx="663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De 2009 a 2015, ocorreu superávit na área urba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Imagem 2" descr=""/>
          <p:cNvPicPr/>
          <p:nvPr/>
        </p:nvPicPr>
        <p:blipFill>
          <a:blip r:embed="rId1"/>
          <a:stretch/>
        </p:blipFill>
        <p:spPr>
          <a:xfrm>
            <a:off x="334800" y="1557360"/>
            <a:ext cx="11161800" cy="487836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2"/>
          <p:cNvSpPr/>
          <p:nvPr/>
        </p:nvSpPr>
        <p:spPr>
          <a:xfrm>
            <a:off x="0" y="981000"/>
            <a:ext cx="1048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a66ac"/>
                </a:solidFill>
                <a:latin typeface="Arial"/>
                <a:ea typeface="Times New Roman"/>
              </a:rPr>
              <a:t>Entre 2018 e 2017, a arrecadação líquida urbana cresceu 1,4% (+R$ 5,2 bilhões), a despesa com benefícios previdenciários 2,8% (+R$ 12,9 bilhões) e o Resultado Previdenciário apresentou elevação de 10,3% (+R$ 7,7 bilhõe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581040"/>
            <a:ext cx="9624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alor Médio Real dos Benefícios Emitidos do Regime Geral de Previdência Social (2011 a 2018)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Média de Janeiro a Dezembro de cada ano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Em R$ de Dezembro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0" y="1044720"/>
            <a:ext cx="97678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 valor médio real dos benefícios do RGPS atingiu R$ 1.404,67, na média de janeiro a dezembro de 2018, o que representou um crescimento de 11,1% em relação ao mesmo período de 201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6555600" y="495612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Vari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+11,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5"/>
          <p:cNvSpPr/>
          <p:nvPr/>
        </p:nvSpPr>
        <p:spPr>
          <a:xfrm flipV="1">
            <a:off x="3139920" y="5229360"/>
            <a:ext cx="3422880" cy="620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6"/>
          <p:cNvSpPr/>
          <p:nvPr/>
        </p:nvSpPr>
        <p:spPr>
          <a:xfrm flipH="1">
            <a:off x="7608960" y="2852640"/>
            <a:ext cx="3456000" cy="2239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334800" y="6367320"/>
            <a:ext cx="861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Inclui apenas os benefícios previdenciários e acidentá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m 1" descr=""/>
          <p:cNvPicPr/>
          <p:nvPr/>
        </p:nvPicPr>
        <p:blipFill>
          <a:blip r:embed="rId1"/>
          <a:stretch/>
        </p:blipFill>
        <p:spPr>
          <a:xfrm>
            <a:off x="4680" y="1565280"/>
            <a:ext cx="1205064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0" y="6303960"/>
            <a:ext cx="12072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s: DATAPREV, SUB, SINTESE.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Obs.: A existência de benefícios com valores inferiores ao salário mínimo deve-se ao desmembramento de pensões e ao pagamento de benefícios como o salário-família, o auxílio suplementar, o auxílio acidente e o abono de permanênci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4871880" y="2133720"/>
            <a:ext cx="568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Arial"/>
              </a:rPr>
              <a:t>Cerca de 66,5% dos benefícios pagos pelo INSS em dez/2018 possuíam o valor de até um salário mínimo, o que representa um contingente de 23,3 milhões de beneficiári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34800" y="746280"/>
            <a:ext cx="1080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ição de Benefícios Emitidos, segundo faixas de Valores 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Em Pisos Previdenciários (Posição em dezembro/20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em 1" descr=""/>
          <p:cNvPicPr/>
          <p:nvPr/>
        </p:nvPicPr>
        <p:blipFill>
          <a:blip r:embed="rId1"/>
          <a:stretch/>
        </p:blipFill>
        <p:spPr>
          <a:xfrm>
            <a:off x="0" y="1251000"/>
            <a:ext cx="12192120" cy="50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152388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CONCEDID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FLUX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6480" y="549360"/>
            <a:ext cx="9545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/2017, Novembro/2018, Dezembro/2018 e Acumulado no ano (2017 e 20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0" y="6456240"/>
            <a:ext cx="82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Imagem 1" descr=""/>
          <p:cNvPicPr/>
          <p:nvPr/>
        </p:nvPicPr>
        <p:blipFill>
          <a:blip r:embed="rId1"/>
          <a:stretch/>
        </p:blipFill>
        <p:spPr>
          <a:xfrm>
            <a:off x="6480" y="1052640"/>
            <a:ext cx="12185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49360"/>
            <a:ext cx="9624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pela Previdência Social (2010 a 2018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cumulado de Janeiro 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 de cada ano ( 2010 a 2018) –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Em milhares de benefí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334800" y="6381720"/>
            <a:ext cx="82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Imagem 1" descr=""/>
          <p:cNvPicPr/>
          <p:nvPr/>
        </p:nvPicPr>
        <p:blipFill>
          <a:blip r:embed="rId1"/>
          <a:stretch/>
        </p:blipFill>
        <p:spPr>
          <a:xfrm>
            <a:off x="0" y="1260360"/>
            <a:ext cx="121442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34920" y="549360"/>
            <a:ext cx="9590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9 a 2018) – Em R$ B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0" y="6458040"/>
            <a:ext cx="663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De 2009 a 2015, ocorreu superávit na área urba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Imagem 1" descr=""/>
          <p:cNvPicPr/>
          <p:nvPr/>
        </p:nvPicPr>
        <p:blipFill>
          <a:blip r:embed="rId1"/>
          <a:stretch/>
        </p:blipFill>
        <p:spPr>
          <a:xfrm>
            <a:off x="47520" y="1054080"/>
            <a:ext cx="1137780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-12600" y="476280"/>
            <a:ext cx="9408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9 a 2018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27000" y="6437160"/>
            <a:ext cx="871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–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1. PIB 2018 estimado de acordo com a Grade de Parâmetros da SPE/MF de 01/2019.   2. De 2009 a 2015, ocorreu superávit na área  urban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Imagem 2" descr=""/>
          <p:cNvPicPr/>
          <p:nvPr/>
        </p:nvPicPr>
        <p:blipFill>
          <a:blip r:embed="rId1"/>
          <a:stretch/>
        </p:blipFill>
        <p:spPr>
          <a:xfrm>
            <a:off x="27000" y="1052640"/>
            <a:ext cx="12045960" cy="53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476280"/>
            <a:ext cx="9551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 (2017 e 2018) – Em R$ milhões de dezembro/2018 (INP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0" y="6450120"/>
            <a:ext cx="788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Imagem 1" descr=""/>
          <p:cNvPicPr/>
          <p:nvPr/>
        </p:nvPicPr>
        <p:blipFill>
          <a:blip r:embed="rId1"/>
          <a:stretch/>
        </p:blipFill>
        <p:spPr>
          <a:xfrm>
            <a:off x="0" y="1268280"/>
            <a:ext cx="1192860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3"/>
          <p:cNvSpPr/>
          <p:nvPr/>
        </p:nvSpPr>
        <p:spPr>
          <a:xfrm>
            <a:off x="0" y="476280"/>
            <a:ext cx="101995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Dezembro/2017, Novembro e Dezembro de 2018 e Acumulado no ano (2017 e 2018) 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milhões nomina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240" y="6481800"/>
            <a:ext cx="30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3240" y="1197000"/>
            <a:ext cx="117093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33480" y="6426360"/>
            <a:ext cx="556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14400" y="476280"/>
            <a:ext cx="96105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9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0" y="981000"/>
            <a:ext cx="11640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a66ac"/>
                </a:solidFill>
                <a:latin typeface="Arial"/>
                <a:ea typeface="Times New Roman"/>
              </a:rPr>
              <a:t>Entre 2018 e 2017, a arrecadação líquida rural cresceu 3,8% (+R$ 366,8 milhões), a despesa com benefícios previdenciários rural e o resultado previdenciário rural tiveram leves aumentos de 0,2% (+R$ 207,3 milhões)  e 0,1% (+R$ 159,5 milhões), respectiv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Imagem 1" descr=""/>
          <p:cNvPicPr/>
          <p:nvPr/>
        </p:nvPicPr>
        <p:blipFill>
          <a:blip r:embed="rId1"/>
          <a:stretch/>
        </p:blipFill>
        <p:spPr>
          <a:xfrm>
            <a:off x="33480" y="1484280"/>
            <a:ext cx="1167912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8-23T21:50:06Z</cp:lastPrinted>
  <dcterms:modified xsi:type="dcterms:W3CDTF">2019-02-11T12:26:48Z</dcterms:modified>
  <cp:revision>665</cp:revision>
  <dc:subject/>
  <dc:title>Demografia</dc:title>
</cp:coreProperties>
</file>